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F9AC-5692-4691-B285-A263FFF3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D981-FD39-4FF8-B955-B1448439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0400-B24E-4B76-884D-829FE86D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BDB2-6BDB-4E8F-914A-2AC9BED6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2395-00AE-490A-A247-90DF457F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0585-EB21-4ADC-A92B-4E5200C0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4930-F9D4-46DD-A83E-70DA5E70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BEC5-C9F3-44BC-AE84-B1663E3B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1B18-598B-4727-935C-DE57E9ED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672E-A054-4371-AC45-787F478B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92B4-588C-4058-9F8A-91049B9E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DB9F-3ED1-4D1A-B43B-FFAE83D2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FDB5-898E-42AE-A757-B55ABFB89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9:26:15Z</dcterms:created>
  <dc:creator>abeason</dc:creator>
  <dc:description/>
  <dc:language>en-US</dc:language>
  <cp:lastModifiedBy>abeason</cp:lastModifiedBy>
  <dcterms:modified xsi:type="dcterms:W3CDTF">2009-01-30T19:26:21Z</dcterms:modified>
  <cp:revision>1</cp:revision>
  <dc:subject/>
  <dc:title>Slide 1</dc:title>
</cp:coreProperties>
</file>